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37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54200"/>
            <a:ext cx="5033880" cy="377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B9D7BAF-E36C-494E-842A-3A82F82D0BA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MATH4 p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67B6E5C-2B98-48DA-BBC0-EA13D698CE2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MATH4 p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552B81D-B2C8-4E83-8528-3F5379782D8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MATH4 p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6B6E059B-A519-4D4C-8242-4807477E693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MATH4 p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1E66D72-CBA3-41C6-9D10-AEACF21936C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MATH4 p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424B730-B3F9-413D-8AF5-B501BC71003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MATH4 p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EA8F4F1-D0D9-41DB-A87B-1E91449F15A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9775E7B-E591-4FD0-B54D-5BBAB5C099F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premiers  points  au  S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MATH4 p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480E180-660D-4AFB-8604-71753BD350D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4C6-3F3B-4FD0-8AB1-AA12C1D6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A35-2DFE-4FC6-8C92-4B05010C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68B-33C4-484B-9370-BD8A52C4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707-0249-45A2-A510-4A1200CF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0E9-03D2-40F6-B97F-B01D4E0F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402-5FA8-4911-BAD5-61C6B44A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4B4-5080-436F-98E1-89E4CBBD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5BD-CF4B-4100-B239-86150768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B55-34D6-405A-85E8-CB66C3A2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46B-5E0A-4B7C-8E9F-1A909F5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C6F-1DDC-4EA9-B649-60DE016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5BF-04E6-4681-89C1-231B2EEB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59A0-05E2-4C73-9870-22444F2CC5B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48800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Verdana"/>
              </a:rPr>
              <a:t>ème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apitre 20 :</a:t>
            </a:r>
            <a:br>
              <a:rPr sz="4400"/>
            </a:br>
            <a:r>
              <a:rPr b="1" lang="en-US" sz="4400" spc="-1" strike="noStrike">
                <a:solidFill>
                  <a:srgbClr val="990033"/>
                </a:solidFill>
                <a:latin typeface="Verdana"/>
              </a:rPr>
              <a:t>Théorème de Thalè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559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ité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: pour calculer une longu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ésoudre les équations suivantes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260360" y="2492280"/>
            <a:ext cx="6264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80280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410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523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816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2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6144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898560" y="189000"/>
            <a:ext cx="712944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Objecti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aître  et  utiliser  la  propriété  de  la  proportionnalité  des  longueurs  dans  le  triangle  pour  résoudre  des 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ctivité 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: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écouverte  de  la  proportionnalité  des  longueurs  dans  un 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Sur  le  triangle  ABC  suivant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 est  un  point  du  côté  [AB]  ;  Tracer  le  point  N  tel  que  la  droite  (MN)  est  parallèle  à  la  droite  (BC)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 Compléter  le  tableau  suivant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 Ce  tableau  est-il  un  tableau  de  proportionnalité  ?  Jus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476360" y="1095480"/>
            <a:ext cx="5975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3726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orème de Thal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t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ABC un triangle 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M est un point de [AB] 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N est un point de [AC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s droites (MN) et (BC) sont 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Capture d’écran 2014-04-08 à 12.51.47.png"/>
          <p:cNvPicPr/>
          <p:nvPr/>
        </p:nvPicPr>
        <p:blipFill>
          <a:blip r:embed="rId1"/>
          <a:stretch/>
        </p:blipFill>
        <p:spPr>
          <a:xfrm>
            <a:off x="-36360" y="476280"/>
            <a:ext cx="9034200" cy="3889440"/>
          </a:xfrm>
          <a:prstGeom prst="rect">
            <a:avLst/>
          </a:prstGeom>
          <a:ln w="0">
            <a:noFill/>
          </a:ln>
        </p:spPr>
      </p:pic>
      <p:sp>
        <p:nvSpPr>
          <p:cNvPr id="57" name="Bulle rectangulaire à coins arrondis 6"/>
          <p:cNvSpPr/>
          <p:nvPr/>
        </p:nvSpPr>
        <p:spPr>
          <a:xfrm>
            <a:off x="5651640" y="5589720"/>
            <a:ext cx="1728720" cy="863640"/>
          </a:xfrm>
          <a:prstGeom prst="wedgeRoundRectCallout">
            <a:avLst>
              <a:gd name="adj1" fmla="val 70324"/>
              <a:gd name="adj2" fmla="val -247222"/>
              <a:gd name="adj3" fmla="val 16667"/>
            </a:avLst>
          </a:prstGeom>
          <a:solidFill>
            <a:srgbClr val="000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Les points A, N et C sont alig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ulle rectangulaire à coins arrondis 3"/>
          <p:cNvSpPr/>
          <p:nvPr/>
        </p:nvSpPr>
        <p:spPr>
          <a:xfrm>
            <a:off x="5148360" y="4292640"/>
            <a:ext cx="1727280" cy="865080"/>
          </a:xfrm>
          <a:prstGeom prst="wedgeRoundRectCallout">
            <a:avLst>
              <a:gd name="adj1" fmla="val 55314"/>
              <a:gd name="adj2" fmla="val -84458"/>
              <a:gd name="adj3" fmla="val 16667"/>
            </a:avLst>
          </a:prstGeom>
          <a:solidFill>
            <a:srgbClr val="000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Les points A, M et B sont alig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ulle rectangulaire à coins arrondis 7"/>
          <p:cNvSpPr/>
          <p:nvPr/>
        </p:nvSpPr>
        <p:spPr>
          <a:xfrm>
            <a:off x="7451640" y="4724280"/>
            <a:ext cx="1621080" cy="865440"/>
          </a:xfrm>
          <a:prstGeom prst="wedgeRoundRectCallout">
            <a:avLst>
              <a:gd name="adj1" fmla="val 26606"/>
              <a:gd name="adj2" fmla="val -138185"/>
              <a:gd name="adj3" fmla="val 16667"/>
            </a:avLst>
          </a:prstGeom>
          <a:solidFill>
            <a:srgbClr val="000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(MN) et (BC) sont parallè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On aurait pu également conclure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tte propriété sert à calculer une longueur  ;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908000" y="1419120"/>
            <a:ext cx="28767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42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06:41:12Z</dcterms:created>
  <dc:creator>jlh</dc:creator>
  <dc:description/>
  <dc:language>en-US</dc:language>
  <cp:lastModifiedBy>Julie Lai-Hang</cp:lastModifiedBy>
  <dcterms:modified xsi:type="dcterms:W3CDTF">2019-05-26T13:36:16Z</dcterms:modified>
  <cp:revision>175</cp:revision>
  <dc:subject/>
  <dc:title>Chapitre 3 :  GRANDEURS COMPOSEES</dc:title>
</cp:coreProperties>
</file>